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6.wmf" ContentType="image/x-wmf"/>
  <Override PartName="/ppt/media/image15.png" ContentType="image/png"/>
  <Override PartName="/ppt/media/image1.jpeg" ContentType="image/jpeg"/>
  <Override PartName="/ppt/media/image10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5920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2DC8-645F-414B-8BED-277AA29B8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3B9F-F0E5-463A-8FF5-86D277484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.Established what is being taught and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eacher survey (re numeracy blo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.Planning s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3.Clinical 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ow a maths lesson should 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4. Team meetings- dialogue and problem around targeted 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heck in meeting- modified/ adjusted to changing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5. Against growth poin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eading to adjusted flexibl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FDAE-EDA9-491C-B2C5-A8FCC3D31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eacher knowledge- focus on building confidence and knowledge through targeted 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rought together “What is the data telling us”  combined with newly acquired knowledge= willingness to try new ways, new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sulted in change in attitude to teaching maths and learning m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Kerin Hazard mentored Hilary and Hilary mentored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ole School Framework: Input, reflection, Commit To Action,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rofessional reading, strategies, critical reflection- what has worked, what hasn’t worked, co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o motivated and inspire whole staff in readiness for ph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7056-9609-4E3C-B9F7-5DDA16A74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ositive feedback from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tudents visibly motivated and eng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ound their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ess able students demonstrated willingness to share their learning woth whol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2A4A-99AA-43C1-B136-065ECB52A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* Unexpected!!!!!Confidence/ volunteered to facilitate PL- motivated by their own successful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F035-21D7-474C-872C-C0DA46E71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. Willingness to “step up” – seems a natural thing to do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haring with “non team members”- applied in other learning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3. Attending PL in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1D10-1223-4CF6-9CC5-AFF57CCAE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4. (relevant, practical, reflection, point  of ne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29DE-C586-4153-987A-02F82486F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dult learning principles- relevance, practical, range of input opportunity for reflection, commit to action and scheduled feedback/ follow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C7BC-8509-411F-AF66-66BB4D073D4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51E-0A2D-4766-AE7A-0B5251FD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F4A-1088-4FE3-B877-90EA2829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9FC-52F0-47A2-8113-1FEC5674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1A2-08C1-4E6E-8ECC-6FBB4D55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ACE0-7782-4E89-B09B-3DA13DF8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16E2-E313-4AD6-A659-88C8708D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08F9-E0B9-4B10-BA75-785F75AE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A9F6-85FA-4A71-94CF-EFA43B6C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AB6C-D141-4C91-89D8-BF76EC31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4F25-A904-455C-B468-19624A3B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E74A-EDFD-48EA-B90F-ED021688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BEB-2428-4DCF-BC52-0FDC42E3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3743-594D-4F97-A633-8A714CBD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2810-3F1F-4855-A2DF-46D25CCF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278A-D1BB-4035-8C80-EC8751E6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FCBA-7C5C-405E-A381-2698776A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0BD0-04F8-42A0-BCA4-AB5234D1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5E9A2-A554-4353-87CD-EB65A372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4EFEE-B9AD-40BB-A9DF-800C2AF0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685C-D559-4708-B87C-0932780A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A12F-D4F9-4E0E-96ED-74FEE5A3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174D3-E882-4A4F-A018-2767460D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45A-2199-401F-963F-1CFCD1EB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B94A8-9509-4533-9C95-9D6944E7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8F49B-0B85-49E9-94AD-B92F818C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4444D-2042-4113-8BBD-4D390F77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C1BC2-47B9-4D19-B2A1-31759C9B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A4DB7-3EF2-4BC5-96B5-A6FEFD74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1068F-2F66-4316-B226-3270144E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E3AE-C26C-48C0-A719-7A23D184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C9BF3-F43D-4CA3-9FE0-385D4C66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9A4FA-9E8C-4B00-80B6-357E406D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B4CB-1E96-4425-8572-864CB866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305-B478-4E11-B28F-02B9CC72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39050-F796-448D-B65D-305171A0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192AF-4471-4E57-AC6B-23FBAB3C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D4F15-DC1F-4F20-B84A-49E45B74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0072D-E17D-4F9F-91CE-C23F561A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4E0D2-8106-4892-9740-24FDD5E6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97E90-64AE-46D6-A941-A762826C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79461-CF6C-48AA-B2CD-A98D73C3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D88B5-7C20-479B-A24B-90A8B6A5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6F8F2-8296-4957-B339-6D1261B9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59B4-FB1E-4CBF-811C-F0734FCC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520-5391-4E5A-A53B-ED47FFF0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93D-E219-4F02-9ACD-503ACC00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02F-D941-459B-B31D-443DA8E1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11E-71E0-4DC2-A380-5C085514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098A-F5EB-4BD5-B54A-EECA8284C44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BDF1-C89F-4F9B-AD26-729080730E5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B327-D2B9-4DFF-8252-308ECB08E7C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9A1C-ED01-434E-BA02-FAB6E7994C0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9VA7V46ZwLw" TargetMode="External"/><Relationship Id="rId3" Type="http://schemas.openxmlformats.org/officeDocument/2006/relationships/hyperlink" Target="http://www.youtube.com/watch?v=9VA7V46ZwLw" TargetMode="External"/><Relationship Id="rId4" Type="http://schemas.openxmlformats.org/officeDocument/2006/relationships/hyperlink" Target="http://www.youtube.com/watch?v=9VA7V46ZwLw" TargetMode="Externa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8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469800" y="1298520"/>
            <a:ext cx="8302680" cy="2438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handsglobe2"/>
          <p:cNvPicPr/>
          <p:nvPr/>
        </p:nvPicPr>
        <p:blipFill>
          <a:blip r:embed="rId3"/>
          <a:stretch/>
        </p:blipFill>
        <p:spPr>
          <a:xfrm>
            <a:off x="3348000" y="4724280"/>
            <a:ext cx="25401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at did we actually do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134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ESTABLISHED OUR STARTING POIN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nalysed existing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urveyed teach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Interviewed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at did we actually do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06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DEVELOPED A PLAN t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) improve learning outco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) change attitu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) develop teachers’ capacity as leaders of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Improve learning outco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1. Checked assumptions by collecting additional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2. Used data to inform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3. Implemented the pl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4. Monitored progress and adjusted pract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5. Tracked students’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Changed attitu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07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eache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Modified teaching practic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hanged attitu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(students and teacher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Down Arrow 3"/>
          <p:cNvSpPr/>
          <p:nvPr/>
        </p:nvSpPr>
        <p:spPr>
          <a:xfrm>
            <a:off x="4211640" y="2852640"/>
            <a:ext cx="504720" cy="6476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Down Arrow 4"/>
          <p:cNvSpPr/>
          <p:nvPr/>
        </p:nvSpPr>
        <p:spPr>
          <a:xfrm>
            <a:off x="4211640" y="4294080"/>
            <a:ext cx="504720" cy="6476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8488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eveloping teachers’ capacity as leaders of lear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34936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1. Team leader mentor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2.Team meetings modelled adult learning princip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3.Facilitated staff professional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How did our plans change along the way and wh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208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esponsive to changing nee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e.g.  Intervention in response to teacher concer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* 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2 groups of 6 students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from 4 classes withdra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* 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ncouraged greater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tudent particip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*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improved confidence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*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improved outc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Rounded Rectangle 3"/>
          <p:cNvSpPr/>
          <p:nvPr/>
        </p:nvSpPr>
        <p:spPr>
          <a:xfrm>
            <a:off x="755640" y="3860640"/>
            <a:ext cx="2089080" cy="252108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521080"/>
              <a:gd name="textAreaBottom" fmla="*/ 2419200 h 2521080"/>
            </a:gdLst>
            <a:ahLst/>
            <a:rect l="textAreaLeft" t="textAreaTop" r="textAreaRight" b="textAreaBottom"/>
            <a:pathLst>
              <a:path w="21600" h="26066">
                <a:moveTo>
                  <a:pt x="3600" y="0"/>
                </a:moveTo>
                <a:arcTo wR="3600" hR="3600" stAng="16200000" swAng="-5400000"/>
                <a:lnTo>
                  <a:pt x="0" y="22466"/>
                </a:lnTo>
                <a:arcTo wR="3600" hR="3600" stAng="10800000" swAng="-5400000"/>
                <a:lnTo>
                  <a:pt x="18000" y="260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Students ‘lost’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Fear of taking risks- making mist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No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Apparent diseng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6227640" y="2997360"/>
            <a:ext cx="2016360" cy="9349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Short term withdrawal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urved Left Arrow 5"/>
          <p:cNvSpPr/>
          <p:nvPr/>
        </p:nvSpPr>
        <p:spPr>
          <a:xfrm rot="15591600">
            <a:off x="3772440" y="2435760"/>
            <a:ext cx="720720" cy="2592360"/>
          </a:xfrm>
          <a:custGeom>
            <a:avLst/>
            <a:gdLst>
              <a:gd name="textAreaLeft" fmla="*/ 96480 w 720720"/>
              <a:gd name="textAreaRight" fmla="*/ 624240 w 720720"/>
              <a:gd name="textAreaTop" fmla="*/ 558000 h 2592360"/>
              <a:gd name="textAreaBottom" fmla="*/ 191448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00" stAng="-5400000" swAng="5400000"/>
                <a:lnTo>
                  <a:pt x="21600" y="11300"/>
                </a:lnTo>
                <a:arcTo wR="21600" hR="9300" stAng="0" swAng="3542964"/>
                <a:lnTo>
                  <a:pt x="5400" y="21305"/>
                </a:lnTo>
                <a:lnTo>
                  <a:pt x="0" y="19600"/>
                </a:lnTo>
                <a:lnTo>
                  <a:pt x="5400" y="17305"/>
                </a:lnTo>
                <a:lnTo>
                  <a:pt x="5400" y="18305"/>
                </a:lnTo>
                <a:arcTo wR="21600" hR="9300" stAng="3542964" swAng="-3382997"/>
                <a:lnTo>
                  <a:pt x="21475" y="10300"/>
                </a:lnTo>
                <a:arcTo wR="21600" hR="9300" stAng="-159968" swAng="-5240032"/>
                <a:close/>
              </a:path>
              <a:path fill="darkenLess" w="21600" h="21600">
                <a:moveTo>
                  <a:pt x="0" y="0"/>
                </a:moveTo>
                <a:arcTo wR="21600" hR="9300" stAng="-5400000" swAng="5400000"/>
                <a:lnTo>
                  <a:pt x="21600" y="11300"/>
                </a:lnTo>
                <a:arcTo wR="21600" hR="9300" stAng="0" swAng="-159968"/>
                <a:lnTo>
                  <a:pt x="21475" y="10300"/>
                </a:lnTo>
                <a:arcTo wR="21600" hR="9300" stAng="-159968" swAng="-5240032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6a00d8341c03bb53ef0133f55873d1970b-800wi"/>
          <p:cNvPicPr/>
          <p:nvPr/>
        </p:nvPicPr>
        <p:blipFill>
          <a:blip r:embed="rId2"/>
          <a:stretch/>
        </p:blipFill>
        <p:spPr>
          <a:xfrm>
            <a:off x="1908000" y="836640"/>
            <a:ext cx="56898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How did our plans change along the wa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eam leader stepped aside for other team members to lead professional lear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at difference did our actions make for staff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onstantia"/>
              </a:rPr>
              <a:t>For Stage 2 Te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1. New norm established for teachers to lead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2. Greater confidence, engagement and willingness to share with other staff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3. Committed to own professional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Stage 2 Te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91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I have learnt so much about my students through conducting clinical interviews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 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I feel that my teaching is much more focused and efficient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 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This work makes me rethink my own professional learning as an educator in the 21</a:t>
            </a:r>
            <a:r>
              <a:rPr b="0" i="1" lang="en-AU" sz="26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 century!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This experience has made me ask the question:  ‘What contribution am I making to the development of a child at St Gerard’s?’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 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I need to set higher expectations for my students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seed"/>
          <p:cNvPicPr/>
          <p:nvPr/>
        </p:nvPicPr>
        <p:blipFill>
          <a:blip r:embed="rId2"/>
          <a:stretch/>
        </p:blipFill>
        <p:spPr>
          <a:xfrm>
            <a:off x="1332000" y="893880"/>
            <a:ext cx="640872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ole Staff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trong interest and curiosity (particularly early years) around the value of clinical interviews and flexible grouping based on growth poi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When are we going to get the opportunity to implement clinical interviews in stage 1 ??!!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gardening-graphics_1066798a"/>
          <p:cNvPicPr/>
          <p:nvPr/>
        </p:nvPicPr>
        <p:blipFill>
          <a:blip r:embed="rId2"/>
          <a:stretch/>
        </p:blipFill>
        <p:spPr>
          <a:xfrm>
            <a:off x="1692360" y="838080"/>
            <a:ext cx="5734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at difference did our actions make for student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568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tudent learn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Quantitative data (growth supported by graphs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% grow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ttitudes / engagement...(</a:t>
            </a:r>
            <a:r>
              <a:rPr b="0" lang="en-AU" sz="2400" spc="-1" strike="noStrike">
                <a:solidFill>
                  <a:srgbClr val="ff0000"/>
                </a:solidFill>
                <a:latin typeface="Constantia"/>
              </a:rPr>
              <a:t>student quotes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Object 3"/>
          <p:cNvGraphicFramePr/>
          <p:nvPr/>
        </p:nvGraphicFramePr>
        <p:xfrm>
          <a:off x="-73080" y="773280"/>
          <a:ext cx="9109080" cy="611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3080" y="773280"/>
                    <a:ext cx="910908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Object 5"/>
          <p:cNvGraphicFramePr/>
          <p:nvPr/>
        </p:nvGraphicFramePr>
        <p:xfrm>
          <a:off x="0" y="563400"/>
          <a:ext cx="9144000" cy="646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63400"/>
                    <a:ext cx="9144000" cy="64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Percentage Growth Feb - Au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5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en-AU" sz="3500" spc="-1" strike="noStrike">
                <a:solidFill>
                  <a:srgbClr val="000000"/>
                </a:solidFill>
                <a:latin typeface="Constantia"/>
              </a:rPr>
              <a:t>B  -  </a:t>
            </a:r>
            <a:r>
              <a:rPr b="0" lang="en-AU" sz="3500" spc="-1" strike="noStrike">
                <a:solidFill>
                  <a:srgbClr val="000000"/>
                </a:solidFill>
                <a:latin typeface="Century Gothic"/>
              </a:rPr>
              <a:t>79.1</a:t>
            </a:r>
            <a:r>
              <a:rPr b="0" lang="en-AU" sz="3500" spc="-1" strike="noStrike">
                <a:solidFill>
                  <a:srgbClr val="000000"/>
                </a:solidFill>
                <a:latin typeface="Constantia"/>
              </a:rPr>
              <a:t>%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5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en-AU" sz="3500" spc="-1" strike="noStrike">
                <a:solidFill>
                  <a:srgbClr val="000000"/>
                </a:solidFill>
                <a:latin typeface="Constantia"/>
              </a:rPr>
              <a:t>M -   </a:t>
            </a:r>
            <a:r>
              <a:rPr b="0" lang="en-AU" sz="3500" spc="-1" strike="noStrike">
                <a:solidFill>
                  <a:srgbClr val="000000"/>
                </a:solidFill>
                <a:latin typeface="Century Gothic"/>
              </a:rPr>
              <a:t>75.5</a:t>
            </a:r>
            <a:r>
              <a:rPr b="0" lang="en-AU" sz="3500" spc="-1" strike="noStrike">
                <a:solidFill>
                  <a:srgbClr val="000000"/>
                </a:solidFill>
                <a:latin typeface="Constantia"/>
              </a:rPr>
              <a:t>%   (</a:t>
            </a:r>
            <a:r>
              <a:rPr b="0" lang="en-AU" sz="3500" spc="-1" strike="noStrike">
                <a:solidFill>
                  <a:srgbClr val="000000"/>
                </a:solidFill>
                <a:latin typeface="Century Gothic"/>
              </a:rPr>
              <a:t>30</a:t>
            </a:r>
            <a:r>
              <a:rPr b="0" lang="en-AU" sz="3500" spc="-1" strike="noStrike">
                <a:solidFill>
                  <a:srgbClr val="000000"/>
                </a:solidFill>
                <a:latin typeface="Constantia"/>
              </a:rPr>
              <a:t>% over </a:t>
            </a:r>
            <a:r>
              <a:rPr b="0" lang="en-AU" sz="3500" spc="-1" strike="noStrike">
                <a:solidFill>
                  <a:srgbClr val="000000"/>
                </a:solidFill>
                <a:latin typeface="Century Gothic"/>
              </a:rPr>
              <a:t>90</a:t>
            </a:r>
            <a:r>
              <a:rPr b="0" lang="en-AU" sz="3500" spc="-1" strike="noStrike">
                <a:solidFill>
                  <a:srgbClr val="000000"/>
                </a:solidFill>
                <a:latin typeface="Constantia"/>
              </a:rPr>
              <a:t>% growth)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"/>
          <p:cNvPicPr/>
          <p:nvPr/>
        </p:nvPicPr>
        <p:blipFill>
          <a:blip r:embed="rId2"/>
          <a:srcRect l="16240" t="19193" r="20278" b="17815"/>
          <a:stretch/>
        </p:blipFill>
        <p:spPr>
          <a:xfrm>
            <a:off x="108000" y="757080"/>
            <a:ext cx="8713800" cy="56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4617b"/>
                </a:solidFill>
                <a:latin typeface="Calibri"/>
              </a:rPr>
              <a:t>                 </a:t>
            </a:r>
            <a:r>
              <a:rPr b="0" lang="en-AU" sz="4600" spc="-1" strike="noStrike">
                <a:solidFill>
                  <a:srgbClr val="04617b"/>
                </a:solidFill>
                <a:latin typeface="Calibri"/>
              </a:rPr>
              <a:t>Year 4 </a:t>
            </a:r>
            <a:br>
              <a:rPr sz="4600"/>
            </a:br>
            <a:r>
              <a:rPr b="0" lang="en-AU" sz="4600" spc="-1" strike="noStrike">
                <a:solidFill>
                  <a:srgbClr val="04617b"/>
                </a:solidFill>
                <a:latin typeface="Calibri"/>
              </a:rPr>
              <a:t>   Combined Growth  Point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ounting   10.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ddition and Subtraction   22.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Place Value   26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Multiplication and Division   27.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4"/>
          <p:cNvGraphicFramePr/>
          <p:nvPr/>
        </p:nvGraphicFramePr>
        <p:xfrm>
          <a:off x="250920" y="0"/>
          <a:ext cx="9467640" cy="6696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0"/>
                    <a:ext cx="946764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Combined Yr 4 </a:t>
            </a:r>
            <a:br>
              <a:rPr sz="5000"/>
            </a:b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        Diagnostic Da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32% of Year 4 have achieved more than half of the Stage 3 Outco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42% of the grade are working at Stage 3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14% of the students have achieved at least 70% of Stage 3 Outco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2% of the students have achieved 90% of Stage 3 Outco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What did we set out to do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Improve student learning outcomes in number (St. </a:t>
            </a: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Improve students and teachers’ attitudes to mathema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Develop teacher capacity as leaders of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Student video cli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at have we learned from</a:t>
            </a:r>
            <a:br>
              <a:rPr sz="5000"/>
            </a:b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       the LTLL projec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1. Teacher engagement, confidence and capacity  impacts  student learning outcom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2. The greater focus on student needs through use of data the more authentic the learning experiences. This results in improved learning outcomes for  stud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3. A team approach is a powerful force for change,   collegiality , motivation and ultimate succe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AU" sz="4600" spc="-1" strike="noStrike">
                <a:solidFill>
                  <a:srgbClr val="04617b"/>
                </a:solidFill>
                <a:latin typeface="Calibri"/>
              </a:rPr>
              <a:t>What have we learned from </a:t>
            </a:r>
            <a:br>
              <a:rPr sz="4600"/>
            </a:br>
            <a:r>
              <a:rPr b="0" lang="en-AU" sz="4600" spc="-1" strike="noStrike">
                <a:solidFill>
                  <a:srgbClr val="04617b"/>
                </a:solidFill>
                <a:latin typeface="Calibri"/>
              </a:rPr>
              <a:t>          the LTLL project?                      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4. Professional learning is most effective when  underpinned by principles of adult lear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5. Planning is important, however a flexible  approach  which is responsive to needs promotes  teacher ‘buy-in’ and commit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6. Change initiatives must  be  adequately  resourced  to ensure their sustainabil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eadership Practices that make a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   difference to students’ outcomes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05120"/>
            <a:ext cx="822960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ear goals and expect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ourcing strategical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nning, coordinating, evaluating teaching and the curriculu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moting and participating in teacher learning &amp; develop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suring an orderly and supportive environ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ed from V. Robins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Viviane Robinson leadership Pract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528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Our learnings  are supported by Viviane Robinson’s BES Research around leadership practices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12720" y="378936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AU" sz="24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=9VA7V46ZwL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at now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onstantia"/>
              </a:rPr>
              <a:t>Phase 2-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pply the LTLL model K-6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tage 2 team to lead whole school development in numb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pply  principles  of LTLL  across other priority learning areas in the schoo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  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The Future must be linked to WHY</a:t>
            </a: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!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nstantia"/>
              </a:rPr>
              <a:t>In order that  our children can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nstantia"/>
              </a:rPr>
              <a:t>CONTRIBUTE POSITIVELY TO THEIR FUTURE WORLD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LightBulbDrawing"/>
          <p:cNvPicPr/>
          <p:nvPr/>
        </p:nvPicPr>
        <p:blipFill>
          <a:blip r:embed="rId2"/>
          <a:stretch/>
        </p:blipFill>
        <p:spPr>
          <a:xfrm>
            <a:off x="4716360" y="0"/>
            <a:ext cx="3816360" cy="3195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6a00d8341c03bb53ef0133f55873d1970b-800wi"/>
          <p:cNvPicPr/>
          <p:nvPr/>
        </p:nvPicPr>
        <p:blipFill>
          <a:blip r:embed="rId3"/>
          <a:stretch/>
        </p:blipFill>
        <p:spPr>
          <a:xfrm>
            <a:off x="826920" y="3257640"/>
            <a:ext cx="3743640" cy="3600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seed"/>
          <p:cNvPicPr/>
          <p:nvPr/>
        </p:nvPicPr>
        <p:blipFill>
          <a:blip r:embed="rId4"/>
          <a:stretch/>
        </p:blipFill>
        <p:spPr>
          <a:xfrm>
            <a:off x="826920" y="260280"/>
            <a:ext cx="3745080" cy="3024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gardening-graphics_1066798a"/>
          <p:cNvPicPr/>
          <p:nvPr/>
        </p:nvPicPr>
        <p:blipFill>
          <a:blip r:embed="rId5"/>
          <a:stretch/>
        </p:blipFill>
        <p:spPr>
          <a:xfrm>
            <a:off x="4572000" y="3284640"/>
            <a:ext cx="3960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279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ommitment to  whole school framework and  authentic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24000" y="4869000"/>
          <a:ext cx="8208720" cy="1608120"/>
        </p:xfrm>
        <a:graphic>
          <a:graphicData uri="http://schemas.openxmlformats.org/drawingml/2006/table">
            <a:tbl>
              <a:tblPr/>
              <a:tblGrid>
                <a:gridCol w="8208720"/>
              </a:tblGrid>
              <a:tr h="12596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We are committed t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lbertus Medium"/>
                          <a:ea typeface="Times New Roman"/>
                        </a:rPr>
                        <a:t>Building Relationships</a:t>
                      </a:r>
                      <a:r>
                        <a:rPr b="1" i="1" lang="en-US" sz="1200" spc="-1" strike="noStrike">
                          <a:solidFill>
                            <a:srgbClr val="1f497d"/>
                          </a:solidFill>
                          <a:latin typeface="Albertus Medium"/>
                          <a:ea typeface="Times New Roman"/>
                        </a:rPr>
                        <a:t>            Valuing and Celebrating            Authentic Engagement            Challenging and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1f497d"/>
                          </a:solidFill>
                          <a:latin typeface="Albertus Medium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1" i="1" lang="en-US" sz="1200" spc="-1" strike="noStrike">
                          <a:solidFill>
                            <a:srgbClr val="1f497d"/>
                          </a:solidFill>
                          <a:latin typeface="Albertus Medium"/>
                          <a:ea typeface="Times New Roman"/>
                        </a:rPr>
                        <a:t>the individual                                                                       Supportive  Lea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1f497d"/>
                          </a:solidFill>
                          <a:latin typeface="Albertus Medium"/>
                          <a:ea typeface="Times New Roman"/>
                        </a:rPr>
                        <a:t>                                                                                                                                                             </a:t>
                      </a:r>
                      <a:r>
                        <a:rPr b="1" i="1" lang="en-US" sz="1200" spc="-1" strike="noStrike">
                          <a:solidFill>
                            <a:srgbClr val="1f497d"/>
                          </a:solidFill>
                          <a:latin typeface="Albertus Medium"/>
                          <a:ea typeface="Times New Roman"/>
                        </a:rPr>
                        <a:t>Environment               </a:t>
                      </a:r>
                      <a:r>
                        <a:rPr b="1" i="1" lang="en-US" sz="1200" spc="-1" strike="noStrike">
                          <a:solidFill>
                            <a:srgbClr val="943634"/>
                          </a:solidFill>
                          <a:latin typeface="Albertus Medium"/>
                          <a:ea typeface="Times New Roman"/>
                        </a:rPr>
                        <a:t>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In order that our children ca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1f497d"/>
                          </a:solidFill>
                          <a:latin typeface="Albertus Medium"/>
                          <a:ea typeface="Times New Roman"/>
                        </a:rPr>
                        <a:t>contribute positively to their future wor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Rectangle 17"/>
          <p:cNvSpPr/>
          <p:nvPr/>
        </p:nvSpPr>
        <p:spPr>
          <a:xfrm>
            <a:off x="2987640" y="1052640"/>
            <a:ext cx="3168720" cy="1368360"/>
          </a:xfrm>
          <a:prstGeom prst="rect">
            <a:avLst/>
          </a:prstGeom>
          <a:solidFill>
            <a:srgbClr val="dbf5f9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f497d"/>
                </a:solidFill>
                <a:latin typeface="Arial"/>
                <a:ea typeface="Times New Roman"/>
              </a:rPr>
              <a:t>United in Baptis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f497d"/>
                </a:solidFill>
                <a:latin typeface="Arial"/>
                <a:ea typeface="Times New Roman"/>
              </a:rPr>
              <a:t>Journeying in faith and lear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f497d"/>
                </a:solidFill>
                <a:latin typeface="Arial"/>
                <a:ea typeface="Times New Roman"/>
              </a:rPr>
              <a:t>We form a vibrant and pastoral communit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f497d"/>
                </a:solidFill>
                <a:latin typeface="Arial"/>
                <a:ea typeface="Times New Roman"/>
              </a:rPr>
              <a:t>Valuing the Individ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f497d"/>
                </a:solidFill>
                <a:latin typeface="Arial"/>
                <a:ea typeface="Times New Roman"/>
              </a:rPr>
              <a:t>Challenging all learner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f497d"/>
                </a:solidFill>
                <a:latin typeface="Arial"/>
                <a:ea typeface="Times New Roman"/>
              </a:rPr>
              <a:t>Making a positive difference in the worl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 rot="3045000">
            <a:off x="2681640" y="2497680"/>
            <a:ext cx="87120" cy="552600"/>
          </a:xfrm>
          <a:prstGeom prst="upDownArrow">
            <a:avLst>
              <a:gd name="adj1" fmla="val 50000"/>
              <a:gd name="adj2" fmla="val 126272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5"/>
          <p:cNvSpPr/>
          <p:nvPr/>
        </p:nvSpPr>
        <p:spPr>
          <a:xfrm>
            <a:off x="971640" y="2565360"/>
            <a:ext cx="1380960" cy="1728720"/>
          </a:xfrm>
          <a:custGeom>
            <a:avLst/>
            <a:gdLst>
              <a:gd name="textAreaLeft" fmla="*/ 67320 w 1380960"/>
              <a:gd name="textAreaRight" fmla="*/ 1313640 w 1380960"/>
              <a:gd name="textAreaTop" fmla="*/ 67320 h 1728720"/>
              <a:gd name="textAreaBottom" fmla="*/ 1661400 h 1728720"/>
            </a:gdLst>
            <a:ahLst/>
            <a:rect l="textAreaLeft" t="textAreaTop" r="textAreaRight" b="textAreaBottom"/>
            <a:pathLst>
              <a:path w="21600" h="27038">
                <a:moveTo>
                  <a:pt x="3600" y="0"/>
                </a:moveTo>
                <a:arcTo wR="3600" hR="3600" stAng="16200000" swAng="-5400000"/>
                <a:lnTo>
                  <a:pt x="0" y="23438"/>
                </a:lnTo>
                <a:arcTo wR="3600" hR="3600" stAng="10800000" swAng="-5400000"/>
                <a:lnTo>
                  <a:pt x="18000" y="270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f5f9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OUR STRUCTU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Arial"/>
                <a:ea typeface="Times New Roman"/>
              </a:rPr>
              <a:t>At St Gerard’s we structure opportunities to develop as a faith &amp; learning commun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4"/>
          <p:cNvSpPr/>
          <p:nvPr/>
        </p:nvSpPr>
        <p:spPr>
          <a:xfrm>
            <a:off x="3924360" y="3068640"/>
            <a:ext cx="1030320" cy="911160"/>
          </a:xfrm>
          <a:prstGeom prst="ellipse">
            <a:avLst/>
          </a:prstGeom>
          <a:solidFill>
            <a:srgbClr val="dbf5f9"/>
          </a:solidFill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3"/>
          <p:cNvSpPr/>
          <p:nvPr/>
        </p:nvSpPr>
        <p:spPr>
          <a:xfrm>
            <a:off x="6443640" y="2565360"/>
            <a:ext cx="1381320" cy="1584360"/>
          </a:xfrm>
          <a:custGeom>
            <a:avLst/>
            <a:gdLst>
              <a:gd name="textAreaLeft" fmla="*/ 67320 w 1381320"/>
              <a:gd name="textAreaRight" fmla="*/ 1314000 w 1381320"/>
              <a:gd name="textAreaTop" fmla="*/ 67320 h 1584360"/>
              <a:gd name="textAreaBottom" fmla="*/ 1517040 h 1584360"/>
            </a:gdLst>
            <a:ahLst/>
            <a:rect l="textAreaLeft" t="textAreaTop" r="textAreaRight" b="textAreaBottom"/>
            <a:pathLst>
              <a:path w="21600" h="24774">
                <a:moveTo>
                  <a:pt x="3600" y="0"/>
                </a:moveTo>
                <a:arcTo wR="3600" hR="3600" stAng="16200000" swAng="-5400000"/>
                <a:lnTo>
                  <a:pt x="0" y="21174"/>
                </a:lnTo>
                <a:arcTo wR="3600" hR="3600" stAng="10800000" swAng="-5400000"/>
                <a:lnTo>
                  <a:pt x="18000" y="247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f5f9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OUR PROCES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Arial"/>
                <a:ea typeface="Times New Roman"/>
              </a:rPr>
              <a:t>At St Gerard’s we engage in processes to develop as a faith &amp; learning commun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 flipH="1" flipV="1" rot="8013600">
            <a:off x="5731560" y="2522880"/>
            <a:ext cx="86040" cy="457200"/>
          </a:xfrm>
          <a:prstGeom prst="upDownArrow">
            <a:avLst>
              <a:gd name="adj1" fmla="val 50000"/>
              <a:gd name="adj2" fmla="val 105784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 flipH="1" rot="8014200">
            <a:off x="2992680" y="4115160"/>
            <a:ext cx="103320" cy="457200"/>
          </a:xfrm>
          <a:prstGeom prst="upDownArrow">
            <a:avLst>
              <a:gd name="adj1" fmla="val 50000"/>
              <a:gd name="adj2" fmla="val 88092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 flipH="1" rot="5478600">
            <a:off x="5551920" y="3247560"/>
            <a:ext cx="84240" cy="456840"/>
          </a:xfrm>
          <a:prstGeom prst="upDownArrow">
            <a:avLst>
              <a:gd name="adj1" fmla="val 50000"/>
              <a:gd name="adj2" fmla="val 107959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 flipH="1" rot="10879200">
            <a:off x="4360320" y="2494440"/>
            <a:ext cx="98280" cy="456840"/>
          </a:xfrm>
          <a:prstGeom prst="upDownArrow">
            <a:avLst>
              <a:gd name="adj1" fmla="val 50000"/>
              <a:gd name="adj2" fmla="val 92536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flipH="1" rot="10831200">
            <a:off x="4357800" y="4149720"/>
            <a:ext cx="115920" cy="457200"/>
          </a:xfrm>
          <a:prstGeom prst="upDownArrow">
            <a:avLst>
              <a:gd name="adj1" fmla="val 50000"/>
              <a:gd name="adj2" fmla="val 78516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flipH="1" rot="5385600">
            <a:off x="2941200" y="3259080"/>
            <a:ext cx="115920" cy="457200"/>
          </a:xfrm>
          <a:prstGeom prst="upDownArrow">
            <a:avLst>
              <a:gd name="adj1" fmla="val 50000"/>
              <a:gd name="adj2" fmla="val 78516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740640" y="6638760"/>
            <a:ext cx="2403360" cy="219240"/>
          </a:xfrm>
          <a:prstGeom prst="rect">
            <a:avLst/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©Mary Leahy Framework -  Used with Permiss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 rot="3045000">
            <a:off x="5777280" y="4080600"/>
            <a:ext cx="87480" cy="552600"/>
          </a:xfrm>
          <a:prstGeom prst="upDownArrow">
            <a:avLst>
              <a:gd name="adj1" fmla="val 50000"/>
              <a:gd name="adj2" fmla="val 125752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19" descr=""/>
          <p:cNvPicPr/>
          <p:nvPr/>
        </p:nvPicPr>
        <p:blipFill>
          <a:blip r:embed="rId2"/>
          <a:stretch/>
        </p:blipFill>
        <p:spPr>
          <a:xfrm>
            <a:off x="0" y="856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6"/>
          <p:cNvSpPr/>
          <p:nvPr/>
        </p:nvSpPr>
        <p:spPr>
          <a:xfrm>
            <a:off x="4481640" y="4330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4024440" y="662040"/>
            <a:ext cx="1095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Inconsistent student achievement in number for stage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Up to 33% of students not achieving benchmark growth in numb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2207880"/>
            <a:ext cx="8569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onstantia"/>
              </a:rPr>
              <a:t>Students don’t  see themselves as ‘mathematicians’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Sometimes I say to myself, “I wish I had that person’s maths brains!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When I see someone really smart I don’t feel confident to ask for help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I’m not good at maths because my parents aren’t good at maths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Well I think I’m ok at maths, but not that good!!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Need to improve teacher confidence a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“ </a:t>
            </a: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Maths is hard work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What am I going to do with this data?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I am not meeting students point of need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It’s difficult to get resources ready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It requires a lot of lesson prep…Is it worth it? Is it sustainable?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It’s a problem catering for so many individual needs in my class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“ </a:t>
            </a: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Some students are still experiencing difficulties no matter what I do!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LightBulbDrawing"/>
          <p:cNvPicPr/>
          <p:nvPr/>
        </p:nvPicPr>
        <p:blipFill>
          <a:blip r:embed="rId2"/>
          <a:stretch/>
        </p:blipFill>
        <p:spPr>
          <a:xfrm>
            <a:off x="1407960" y="763560"/>
            <a:ext cx="656460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0:11:37Z</dcterms:created>
  <dc:creator>HP_Administrator</dc:creator>
  <dc:description/>
  <dc:language>en-US</dc:language>
  <cp:lastModifiedBy>hilary.cameron</cp:lastModifiedBy>
  <dcterms:modified xsi:type="dcterms:W3CDTF">2011-11-09T04:15:36Z</dcterms:modified>
  <cp:revision>283</cp:revision>
  <dc:subject/>
  <dc:title>Slide 1</dc:title>
</cp:coreProperties>
</file>